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82E-68A5-490C-85EB-298592D3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E96-E25C-445E-8F66-ECF8F623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2D3-4F9D-41CF-88E6-63C13A337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43B-512C-4728-84E6-541B5515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937-DB3C-4827-BFC3-21CF7484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99C-1B32-46F0-887F-8285546A1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8DD-9A6A-4C19-B729-98D1B483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A8B-9E35-44D0-9847-7FB587F1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C75-1767-45C8-B6E6-7021A58C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DC9-6EC7-4AFD-A38F-52BD1C8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3EDE-1198-4141-BD18-CB5E1A75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91E-22E8-4584-BEB8-02B5A43E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EC53-62CD-42FC-884C-A8082AFBF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ن هو ملك المجد كيف ندعوه   هو من به كل الشعب موعو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في كلِّ الأرضِ ذاع مجد فادينا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لساكن بيننا بلمسةٍ يشفين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حياته لمنحه الخلاص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هو حامل كل خطايا النا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1951018tSNAoaKomf_p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ملك المجدِ آتٍ إفتحوا الأبواب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افرحوا يا شعوبُ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وارفعواالهُت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قام ألهنا فقهر الخطيئة    </a:t>
            </a:r>
            <a:r>
              <a:rPr b="1" lang="en-US" sz="3600" spc="-1" strike="noStrike">
                <a:solidFill>
                  <a:srgbClr val="ffffff"/>
                </a:solidFill>
                <a:latin typeface="Simplified Arabic"/>
                <a:ea typeface="Times New Roman (Arabic)"/>
              </a:rPr>
              <a:t>       </a:t>
            </a:r>
            <a:r>
              <a:rPr b="1" lang="ar-SA" sz="3600" spc="-1" strike="noStrike">
                <a:solidFill>
                  <a:srgbClr val="ffffff"/>
                </a:solidFill>
                <a:latin typeface="Simplified Arabic"/>
                <a:cs typeface="Times New Roman (Arabic)"/>
              </a:rPr>
              <a:t>أعطى من السماء رؤية جدي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04:16:19Z</dcterms:created>
  <dc:creator>USER</dc:creator>
  <dc:description/>
  <dc:language>en-US</dc:language>
  <cp:lastModifiedBy>USER</cp:lastModifiedBy>
  <dcterms:modified xsi:type="dcterms:W3CDTF">2003-02-08T07:35:43Z</dcterms:modified>
  <cp:revision>2</cp:revision>
  <dc:subject/>
  <dc:title>PowerPoint Presentation</dc:title>
</cp:coreProperties>
</file>